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jpeg" ContentType="image/jpeg"/>
  <Override PartName="/ppt/media/image10.png" ContentType="image/png"/>
  <Override PartName="/ppt/media/image45.png" ContentType="image/png"/>
  <Override PartName="/ppt/media/image27.jpeg" ContentType="image/jpeg"/>
  <Override PartName="/ppt/media/image11.png" ContentType="image/png"/>
  <Override PartName="/ppt/media/image30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19.jpeg" ContentType="image/jpeg"/>
  <Override PartName="/ppt/media/image42.jpeg" ContentType="image/jpeg"/>
  <Override PartName="/ppt/media/image40.png" ContentType="image/png"/>
  <Override PartName="/ppt/media/image41.png" ContentType="image/png"/>
  <Override PartName="/ppt/media/image44.png" ContentType="image/png"/>
  <Override PartName="/ppt/media/image46.jpeg" ContentType="image/jpeg"/>
  <Override PartName="/ppt/media/image39.png" ContentType="image/png"/>
  <Override PartName="/ppt/media/image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5.jpeg" ContentType="image/jpeg"/>
  <Override PartName="/ppt/media/image32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5E9-828E-44CC-8BA4-B069ADCC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7FA-6FD0-41D7-8D17-C6DE22DB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E7A-B9BE-4BF0-81CA-3E083951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807-85A6-4E6F-98C7-0598DA4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3F7-7AA5-4695-A977-FCB906D8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384E-D0BE-44DB-8471-F5E485D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FF6F-E3BF-4BDE-94B0-CDE7633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4CCA-1A28-4A15-8D11-31450C61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D5AD-1972-4AA0-A1A0-E92C7632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027E-28E7-4556-BD34-0FA56A9D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00DA-9058-4270-A09F-31BAB45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D3B-0711-4E06-85A4-3E24D9A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78A3-F4E1-4A74-91D1-8AB8080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98FC-3397-4BD2-9607-6D3C93C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EADA-F4D9-431C-9913-7EF455DD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2EB-94B0-488C-AB3A-3EEC023E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342E-4549-44A5-A8EF-D85E2568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5503-7465-42FE-A0BE-01F2B105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0215-1056-410B-BCE5-5A3027C6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3BCA-B7E5-427A-A6C9-03AC6177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2885-B19A-46E2-91D6-D7F7A93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A9D1-BAA4-4E1F-BC57-4583A5C8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657-88AD-4743-972B-C370927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D118-A100-44C6-8D35-7D5D97C6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D010-1FF8-45D1-B6B2-6270F30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A8B6-B148-4AFA-904F-8D708D8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12A7-DA89-4EF9-B15A-B5EF247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A875-BEC6-4B57-950C-DC102FE3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0FB9-2BAB-4A05-9669-EF4B7EF7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8589-0577-49FA-8FD1-F639C27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1005-9200-4CBD-A6CF-D5F4B1F8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CEB4-6FB1-4626-A9EA-DCFFFA1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2BB7-68CB-416C-ABEE-BABAE6F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878-9D13-45CC-8210-9E8876A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98D1D-1C9A-4EB0-A90D-B17314F4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8A28B-FD6D-44FC-BBD7-1FCC3E59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3836-3B82-43A7-A19A-166760B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6038-9141-41F6-AF7A-F1BADDAA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25B2-53C6-4DCE-BDCE-B97BBA3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8C85-8C3D-4AC2-98C8-C966C83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D1F6-605A-4167-B2A9-0417994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4795-AF6F-4FC9-9B92-40A33027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7333-E734-4ED6-B860-66042A38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1361-B961-467A-9CE2-79F33278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2E6-3994-4144-A7EF-268BCDAA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D2F3-5979-4CDC-9A46-7F5DCFF3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EF49-BF0E-4554-B154-ABD2239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D92D-B29E-4794-9ACD-49ECA3C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956B-4B86-470A-B64D-DAA48B46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BF8A-4F8E-46D4-A022-6EB01ECA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2853D-1481-4EBD-9509-6F6ED73C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A12BE-0980-4734-AC68-2DCEDA5A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2E32-990B-4ACC-84CA-993D6C2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95D1-3FC0-4BA5-90DD-F6A9A2E1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1E1D-B164-4D1D-B2B5-8D36E128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E12-7119-4873-8D77-582227E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6ECE4-93EB-411F-9936-B6E25ED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06C3F-1352-4DBC-81FC-204C9090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ED20-BB63-40DE-B045-00B6B03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B13F-FF7E-47A1-86E9-1DDC778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242F-F1CB-4286-83E8-A3EF4F4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DC74-B15D-4B54-965F-96D4F7B7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DA83-7697-40E2-8FC8-9614288B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1DC1-87C9-464D-8AE7-9B847F9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4E6A-239A-4DFF-AE3F-A4875EB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DC91-C4F4-45BD-8B9F-8A2C981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7B5-8503-433A-9520-214741A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4C4F-1A1A-47BE-B084-26490B5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4C4C-02DC-4A3C-B6DD-53BF5345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7DB5-B00B-4D1D-B514-25807345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69E4F-EB4B-486D-86B1-0911C7D9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C8B25-6B5A-4647-BA58-E2E3B7F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093F-B109-423D-938B-E3FD826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9F60-67F3-42C7-8BFB-27532D00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2744-9672-48FD-A961-A93B3B5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84C8E-A859-4226-BE8E-2E91EBD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7DE5-3733-4742-881A-1F318D6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6C0-3067-4837-9D68-EAE6135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B499-C8F0-42FF-80CC-DF8121D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897D8-231C-4A77-82A4-E04CFD26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C70C1-7A78-4CF5-AA4D-99F2725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BE67-B816-485A-A571-A603FC4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085F-EA95-4D50-8794-1D7AECFD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4D55-DED6-4103-8BD9-6AF320C6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115B-581C-413C-BBE7-6573FCC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4B0D7-49B5-4C2F-8ED0-4648DCDC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CCD99-7EE4-4F09-82B5-C8313BB1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A3943-31A8-4201-A784-54E9A7C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AD2-9B9B-432F-B7E0-52536AC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B72D7-49E8-4B8A-8946-D9DF0EC0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43EE-D714-4C84-9FEF-4BEFE32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2C36-04D8-4BD9-AE08-C7369E0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9B2F-71D3-41A0-B333-46F2DEA3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4946-DAD4-42FE-9AFF-89E53AD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8BE95-45FE-4C2B-9118-3CC6EDB6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54725-A9FC-40E4-BB5B-98EFA2FC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6EEB-7F00-4150-8548-510658DAD25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19FA-F909-49B1-AB59-D2A3FDCB393E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F8A3-7717-4033-A394-ECB6C002178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7CF-A4C0-4039-AEEE-9B79BBE09F5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947C-0419-4BC6-B99F-4C8509C1DC6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C1EC-8A43-49D7-95A5-BBF4AF40B54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4807-C87C-4A3B-ABEA-CCE1CFC156D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EA0B-10DB-4E05-9E19-E2C2F7C32CE5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ed1"/>
          <p:cNvPicPr/>
          <p:nvPr/>
        </p:nvPicPr>
        <p:blipFill>
          <a:blip r:embed="rId1"/>
          <a:stretch/>
        </p:blipFill>
        <p:spPr>
          <a:xfrm>
            <a:off x="1143000" y="407880"/>
            <a:ext cx="73436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47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Coaching is one model of professional development that has shown </a:t>
            </a:r>
            <a:r>
              <a:rPr b="1" i="1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potential to improve the knowledge, skill and practice of teachers, therefore, enhancing student achievement.</a:t>
            </a:r>
            <a:r>
              <a:rPr b="1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ripple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834080" y="2286000"/>
            <a:ext cx="3985920" cy="1573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image002"/>
          <p:cNvPicPr/>
          <p:nvPr/>
        </p:nvPicPr>
        <p:blipFill>
          <a:blip r:embed="rId2"/>
          <a:stretch/>
        </p:blipFill>
        <p:spPr>
          <a:xfrm>
            <a:off x="685800" y="609480"/>
            <a:ext cx="4343400" cy="495000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/>
          <p:cNvSpPr/>
          <p:nvPr/>
        </p:nvSpPr>
        <p:spPr>
          <a:xfrm>
            <a:off x="533520" y="4952880"/>
            <a:ext cx="4572000" cy="1143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838080" y="457200"/>
            <a:ext cx="3886200" cy="4800600"/>
          </a:xfrm>
          <a:custGeom>
            <a:avLst/>
            <a:gdLst>
              <a:gd name="textAreaLeft" fmla="*/ 67680 w 3886200"/>
              <a:gd name="textAreaRight" fmla="*/ 3818520 w 3886200"/>
              <a:gd name="textAreaTop" fmla="*/ 0 h 4800600"/>
              <a:gd name="textAreaBottom" fmla="*/ 2905200 h 4800600"/>
            </a:gdLst>
            <a:ahLst/>
            <a:rect l="textAreaLeft" t="textAreaTop" r="textAreaRight" b="textAreaBottom"/>
            <a:pathLst>
              <a:path w="21600" h="21600">
                <a:moveTo>
                  <a:pt x="2144" y="10607"/>
                </a:moveTo>
                <a:cubicBezTo>
                  <a:pt x="2249" y="5901"/>
                  <a:pt x="6093" y="2141"/>
                  <a:pt x="10800" y="2142"/>
                </a:cubicBezTo>
                <a:cubicBezTo>
                  <a:pt x="15506" y="2142"/>
                  <a:pt x="19350" y="5901"/>
                  <a:pt x="19455" y="10607"/>
                </a:cubicBezTo>
                <a:lnTo>
                  <a:pt x="21597" y="10559"/>
                </a:lnTo>
                <a:cubicBezTo>
                  <a:pt x="21466" y="4689"/>
                  <a:pt x="16670" y="-1"/>
                  <a:pt x="10799" y="0"/>
                </a:cubicBezTo>
                <a:cubicBezTo>
                  <a:pt x="4929" y="0"/>
                  <a:pt x="133" y="4689"/>
                  <a:pt x="2" y="10559"/>
                </a:cubicBezTo>
                <a:lnTo>
                  <a:pt x="2144" y="106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b050"/>
                </a:solidFill>
                <a:latin typeface="Verdana"/>
                <a:ea typeface="Arial Unicode MS"/>
              </a:rPr>
              <a:t>This study indicated that without support and follow-up, teacher implementation of new instructional methods is about 10%, but with coaching the percentage increases to 85% (Knight, 2004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49120" y="1951200"/>
            <a:ext cx="81327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5"/>
          <p:cNvSpPr txBox="1"/>
          <p:nvPr/>
        </p:nvSpPr>
        <p:spPr>
          <a:xfrm>
            <a:off x="685800" y="30492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proved Student Lear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8" name="Picture 7" descr="tut"/>
          <p:cNvPicPr/>
          <p:nvPr/>
        </p:nvPicPr>
        <p:blipFill>
          <a:blip r:embed="rId1"/>
          <a:stretch/>
        </p:blipFill>
        <p:spPr>
          <a:xfrm>
            <a:off x="380880" y="1523880"/>
            <a:ext cx="3429000" cy="2370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ub18"/>
          <p:cNvPicPr/>
          <p:nvPr/>
        </p:nvPicPr>
        <p:blipFill>
          <a:blip r:embed="rId2"/>
          <a:stretch/>
        </p:blipFill>
        <p:spPr>
          <a:xfrm>
            <a:off x="2971800" y="3809880"/>
            <a:ext cx="3352680" cy="2487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index1_r2_c1"/>
          <p:cNvPicPr/>
          <p:nvPr/>
        </p:nvPicPr>
        <p:blipFill>
          <a:blip r:embed="rId3"/>
          <a:stretch/>
        </p:blipFill>
        <p:spPr>
          <a:xfrm>
            <a:off x="380880" y="3362400"/>
            <a:ext cx="2814840" cy="3495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cw_boyscollaboratingrv"/>
          <p:cNvPicPr/>
          <p:nvPr/>
        </p:nvPicPr>
        <p:blipFill>
          <a:blip r:embed="rId4"/>
          <a:stretch/>
        </p:blipFill>
        <p:spPr>
          <a:xfrm>
            <a:off x="6019920" y="1447920"/>
            <a:ext cx="25034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39680" y="-103320"/>
            <a:ext cx="8547120" cy="2121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php68PFjC"/>
          <p:cNvPicPr/>
          <p:nvPr/>
        </p:nvPicPr>
        <p:blipFill>
          <a:blip r:embed="rId2"/>
          <a:stretch/>
        </p:blipFill>
        <p:spPr>
          <a:xfrm>
            <a:off x="1676520" y="2362320"/>
            <a:ext cx="5410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16560" y="993600"/>
            <a:ext cx="4584600" cy="3962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blk&amp;white-holding-hands"/>
          <p:cNvPicPr/>
          <p:nvPr/>
        </p:nvPicPr>
        <p:blipFill>
          <a:blip r:embed="rId2"/>
          <a:stretch/>
        </p:blipFill>
        <p:spPr>
          <a:xfrm>
            <a:off x="304920" y="228600"/>
            <a:ext cx="42177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improve teaching and student lear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facilitate the exploration of needs, motivations, desires, skills and thought processes to assist the individual in making real, lasting chan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689040" y="1384200"/>
            <a:ext cx="8205840" cy="5473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Pillars-of-support"/>
          <p:cNvPicPr/>
          <p:nvPr/>
        </p:nvPicPr>
        <p:blipFill>
          <a:blip r:embed="rId2"/>
          <a:stretch/>
        </p:blipFill>
        <p:spPr>
          <a:xfrm>
            <a:off x="152280" y="4419720"/>
            <a:ext cx="2895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– Write down qualities of a spectator and a c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ir – Share your list and add and elaborate to your li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 with the table, add to your li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 with the large grou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689040" y="60480"/>
            <a:ext cx="8040600" cy="1877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bar-graph"/>
          <p:cNvPicPr/>
          <p:nvPr/>
        </p:nvPicPr>
        <p:blipFill>
          <a:blip r:embed="rId2"/>
          <a:stretch/>
        </p:blipFill>
        <p:spPr>
          <a:xfrm>
            <a:off x="304920" y="2286000"/>
            <a:ext cx="2711160" cy="27432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8"/>
          <p:cNvSpPr/>
          <p:nvPr/>
        </p:nvSpPr>
        <p:spPr>
          <a:xfrm>
            <a:off x="3124080" y="1981080"/>
            <a:ext cx="566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blocks and the graph create a visual representation of your school’s pillar of strengths and sup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with a neigh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ery Walk to see the division pillars of strengths and suppor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3124080" y="4267080"/>
            <a:ext cx="5715000" cy="10670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2971800" y="5334120"/>
            <a:ext cx="5791320" cy="11430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0" y="743040"/>
            <a:ext cx="3895560" cy="5565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Edenpics-com_003-005-Sunset-on-a-pond-with-reflection-of-the-trees-in-the-water-Switzerland-St"/>
          <p:cNvPicPr/>
          <p:nvPr/>
        </p:nvPicPr>
        <p:blipFill>
          <a:blip r:embed="rId2"/>
          <a:stretch/>
        </p:blipFill>
        <p:spPr>
          <a:xfrm>
            <a:off x="4267080" y="1447920"/>
            <a:ext cx="4437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332560" cy="2127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Characteristics of Effective Instructional Coaches – Killion/Harris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ource provid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Coa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urriculum Speciali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tructional Speciali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assroom Suppor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rning Facilita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n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hool Leader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talyst for chan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rn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01600" y="237960"/>
            <a:ext cx="8485200" cy="1206720"/>
          </a:xfrm>
          <a:prstGeom prst="rect">
            <a:avLst/>
          </a:prstGeom>
          <a:ln w="0">
            <a:noFill/>
          </a:ln>
        </p:spPr>
      </p:pic>
      <p:sp>
        <p:nvSpPr>
          <p:cNvPr id="421" name="Oval 3"/>
          <p:cNvSpPr/>
          <p:nvPr/>
        </p:nvSpPr>
        <p:spPr>
          <a:xfrm>
            <a:off x="685800" y="2057400"/>
            <a:ext cx="4267080" cy="411480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The deepest sin against the human mind is to believe things without evidence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Thomas Huxley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English biologis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(1825 - 1895)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554040" y="365040"/>
            <a:ext cx="81820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EndOfImprovement"/>
          <p:cNvPicPr/>
          <p:nvPr/>
        </p:nvPicPr>
        <p:blipFill>
          <a:blip r:embed="rId1"/>
          <a:stretch/>
        </p:blipFill>
        <p:spPr>
          <a:xfrm>
            <a:off x="2438280" y="0"/>
            <a:ext cx="405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grandes-courses-zinal-rothorn-traverse"/>
          <p:cNvPicPr/>
          <p:nvPr/>
        </p:nvPicPr>
        <p:blipFill>
          <a:blip r:embed="rId1"/>
          <a:stretch/>
        </p:blipFill>
        <p:spPr>
          <a:xfrm>
            <a:off x="1828800" y="685800"/>
            <a:ext cx="5410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590400" y="212760"/>
            <a:ext cx="82980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14360" y="1341360"/>
            <a:ext cx="8991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Isosceles Triangle 2"/>
          <p:cNvSpPr/>
          <p:nvPr/>
        </p:nvSpPr>
        <p:spPr>
          <a:xfrm>
            <a:off x="3657600" y="3581280"/>
            <a:ext cx="1371600" cy="167652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Straight Connector 4" descr=""/>
          <p:cNvPicPr/>
          <p:nvPr/>
        </p:nvPicPr>
        <p:blipFill>
          <a:blip r:embed="rId2"/>
          <a:stretch/>
        </p:blipFill>
        <p:spPr>
          <a:xfrm>
            <a:off x="1450800" y="3548160"/>
            <a:ext cx="6102360" cy="856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76212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- Spec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027840" y="25146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- 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9" name="Picture 4" descr="DSC00150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31840" y="1731960"/>
            <a:ext cx="4363920" cy="23526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"/>
          <p:cNvSpPr/>
          <p:nvPr/>
        </p:nvSpPr>
        <p:spPr>
          <a:xfrm>
            <a:off x="3657600" y="1066680"/>
            <a:ext cx="5257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Learn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2d050"/>
                </a:solidFill>
                <a:latin typeface="Times New Roman"/>
              </a:rPr>
              <a:t>Serve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Empow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689040" y="682560"/>
            <a:ext cx="81309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atalystweb-final2_05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346640" y="2682720"/>
            <a:ext cx="4668840" cy="1676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?image_id=1735438"/>
          <p:cNvPicPr/>
          <p:nvPr/>
        </p:nvPicPr>
        <p:blipFill>
          <a:blip r:embed="rId2"/>
          <a:stretch/>
        </p:blipFill>
        <p:spPr>
          <a:xfrm>
            <a:off x="380880" y="1905120"/>
            <a:ext cx="41148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Research shows that the highest achieving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schools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,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districts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, and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teachers work in collegial,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supportive ways with each other, sharing a common knowledge base, vocabulary, and goals for stud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803840" y="2225520"/>
            <a:ext cx="3906720" cy="1676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Two-Hands-Joined-web"/>
          <p:cNvPicPr/>
          <p:nvPr/>
        </p:nvPicPr>
        <p:blipFill>
          <a:blip r:embed="rId2"/>
          <a:stretch/>
        </p:blipFill>
        <p:spPr>
          <a:xfrm>
            <a:off x="914400" y="1447920"/>
            <a:ext cx="407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49:41Z</dcterms:created>
  <dc:creator>Doug</dc:creator>
  <dc:description/>
  <dc:language>en-US</dc:language>
  <cp:lastModifiedBy>Brenda MacDonald</cp:lastModifiedBy>
  <dcterms:modified xsi:type="dcterms:W3CDTF">2010-12-01T21:33:56Z</dcterms:modified>
  <cp:revision>22</cp:revision>
  <dc:subject/>
  <dc:title>PowerPoint Presentation</dc:title>
</cp:coreProperties>
</file>